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31D-A138-40EA-A18A-AB60BEB8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071-7F03-41B0-A9CB-318179DE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868-FCBD-4309-A87F-0984779C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110-0D84-4455-B05E-50E1C216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CE1-8E28-49A1-B358-4BDB5040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CAC-DA87-4C9F-A523-CA24D8DC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0CF-7236-4D1F-93D1-151F9D9E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8C7-CF84-4EE8-A2AC-0C2DE217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21A-B301-4BBE-8154-B3375492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34B-DA92-4628-A3F5-FAFB7B8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161-CC9D-4173-8D5D-54D9B754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E2C-5C9E-402D-A6CE-7DD61ED9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6AE4-35FB-4716-8737-871A9A756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ers and Absolut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6680" y="2058840"/>
            <a:ext cx="8809200" cy="274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2558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umbers that are the same distance from zero on the number line but in opposite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3200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 whole numbers and their oppo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886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number’s distance from zero on the number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5159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paring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374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003560"/>
            <a:ext cx="8915400" cy="254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3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54864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516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57834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399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3049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inding Absol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545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6012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2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52:30Z</dcterms:created>
  <dc:creator>Susannah Graham</dc:creator>
  <dc:description/>
  <dc:language>en-US</dc:language>
  <cp:lastModifiedBy>Graham</cp:lastModifiedBy>
  <dcterms:modified xsi:type="dcterms:W3CDTF">2011-08-18T12:56:46Z</dcterms:modified>
  <cp:revision>3</cp:revision>
  <dc:subject/>
  <dc:title>Lesson 1.4 Integers and Absolute Value</dc:title>
</cp:coreProperties>
</file>